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E5E-9C97-48B2-97F6-54BD5CC4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524-70EA-477A-87F7-8C9FD394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02CAC-03E4-4EF1-BC7F-28175FFC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30EE9-FC07-4DCA-A06A-596ECB98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86B61-CD14-4AA5-969E-5A3B48FC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E91EC-9FB3-4774-B1FB-A964461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BF453-6414-4EC1-AB82-2D9193BC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B530D-9EDF-411C-AAED-28EF380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EE926-980E-454C-8C38-93D649F2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8F168-A37D-4DBB-8FFD-EA3FFF56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AE382-8D54-46E6-9CB5-0243E79F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0A73D-FD8F-4F41-A4AF-DDCE2473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732-149E-4015-AF0B-465B1E0A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2B229-80F4-48FA-8099-4B0B8C60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34843-DF92-48FA-B9D3-8E9B5409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F6554-CEC7-42D9-A65E-86AE35FB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02708-C09D-4D10-B937-23CACDD2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78CDF-33F8-4937-A37D-EC407B37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DD7DA-6166-46AE-B5D6-A578D74F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875F8-698D-40D6-881C-8626CCC5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571F8-7724-416A-93EF-93D543A6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02BB6-C580-4B7A-AEF2-7B399045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ED75D-8469-4DCF-8A74-5E382A59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3AF-F0AD-47E9-AA47-BB15B734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51DAA-655D-495C-941C-D53B3B62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58CBE6-F23E-4E8F-A1B9-97881AC3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2533DD-8390-4936-9B44-F65ACE0A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002A4E-D0B5-41D0-AF52-65F55ED9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4DE3AE-8F3D-4580-8BAC-C733AC74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2B93EC-CD4F-4AA4-9CD0-727EC74F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9D8AE6-E7C2-404D-9C8A-A707FEE0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DE7400-2C0D-4F8D-8A7B-E3ACCDD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B63796-7330-4BA5-ADA3-536F158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90819C-898E-4F48-825D-F9FF0CD5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2E8D-0421-40EF-8E29-71D49B18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EAAC98-DB2B-4BBF-8A5F-DC98AFCA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A282EC-114B-477B-9C1C-03C80BF7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83F83F-06A1-4BEC-9517-41A817F7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A46A-C002-4134-BA60-A689E08C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3C7B-B7F5-49DB-A314-4E8326D3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DDCC-72EE-4F53-967A-74C838A6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3E06-F758-47F6-9F07-BD016F35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4BEE-C740-4F0C-B334-B7F58259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2FA-D0A9-4EAB-AF11-CE63EE7F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D3F-C122-42A8-A1ED-DE394F0A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0E3B-D9EF-452B-BF6C-FB2B56BC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E002-F208-470A-BDA3-C49EDB17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EBD9-FE0D-4EA1-AB7D-103FB6EA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16C3-6912-479C-8A34-9A867C5B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510D-652E-45BD-8DD5-E072C9DC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1477-CBB3-4242-8A95-B1811555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823A-FB27-4FCE-A8D9-2CA9F6D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05C60-7F5E-4498-B2C6-F81C127C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AAD9-B2AB-4301-B118-8ABCDF5F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18B8-2D3F-445D-8944-ED7D90F1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32D-63C8-491F-9B5F-B643F028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A881-B4EE-48BA-8BDB-92000A9E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50A4-7C60-404E-A77E-78D81341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014A-A8EE-4BBB-85BC-00C17E88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DED4-ADF8-4841-B1C8-92BB4CC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1CB9-780E-4F89-9E36-66E04278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4D4F2-AB45-465E-8A1D-372C6387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EE1E-CB98-4AAA-96E9-3E9E6447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891F-0EDE-4B6D-93A9-93921634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D062-733F-45E4-9C2F-F644D863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69CF-AB16-4814-BA96-F025DDD8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8FD-8928-49B5-A27C-AF2EBC37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1913-8AFB-4A72-AEDA-6E1186C9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A973-BF0E-4823-8A73-AB3AC36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70964-083B-43C1-999F-D12876D7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D92CD-6A2C-4A3B-8277-CFF83723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6586-573B-4ED0-BE02-149651D0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F48F-9579-4D59-BAB0-8C5FD9EF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A0D70-676E-4055-80A0-AC170E24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37E1-74B9-44B3-8A81-C22B4880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B1F15-0404-4B02-A932-ACF97C50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F20C-7F7F-40CC-BB29-42B463D0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181-A639-4083-8276-59D672EA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D596-E407-4801-A9B2-26B69F82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4F8B5-F056-4E2F-A5F7-8D731E73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2DCFF-F9BA-45AA-849A-D87B61B8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0C62-EEF8-4F8B-B66C-473E8B7F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06E8-753E-4A01-9246-AB4EF567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EECDB-59BC-4F33-9010-E037F034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4B94-335F-4574-B1BF-02CC49A4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ADDFB-3CE9-4E50-9A48-6D52011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F0C76-C3DA-4007-8E38-025DF460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2A7B-8EC9-4995-8E63-9F83C2B8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246-A13C-4951-A808-F3753607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A0A15-D4B4-4214-99B2-E13192E9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37970-BF16-4E55-B1F1-BD3C7898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EF41D-859A-4BC9-878D-88E083B1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AE78-5B60-4B8A-8992-2655E4D9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CA1D-FCED-4DAB-AC63-08588012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3E78-85A8-45C2-B474-EBA7A35E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75F39-AC6D-47DC-889D-0F1F70C8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D958-CF2E-4870-B69F-7226991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FF19B-44FE-47F5-8A6C-1E6D12E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11A65-E6AF-471A-8CEA-B3B4E84C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E04-5739-4725-A933-4D81F9FD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9311A-C6C8-4DB6-88B9-D3ECDAD7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80D69-89DE-4FEC-8598-178853E2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5B71F-F96B-477E-AB03-A0DD095E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4014F-BC20-4738-A22F-73C5CECC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BED4-E794-4B6E-984B-92AC2234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75F21-05F2-43C0-A23E-830A2E85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90BD-3935-45AA-B3FB-1086919A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96F9E-813A-47D1-A692-3EE9951D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C554A-D3FF-48E2-B704-7A23FD86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DEF2A-6747-4C94-BA9B-AEC133B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FD9-1F09-470C-B218-A8DF14F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99E24-5CD6-4F99-89C4-6B63CD1A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C88DB-B2F1-4CB5-BAC7-A19F1C84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4E473-E5FF-462C-8593-57BBE2E0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C96C1-10DD-4D25-9081-E6DF7C68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02E0-FA21-4B16-90AB-FF715894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AEB9-3D8F-4B5F-921E-E06A01E2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1EA64-B463-445E-9747-BB4891E9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83E45-BA47-4E38-8EE2-F874D157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F9934-C8D5-4B61-A81F-E0884EAF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DA04D-614B-4560-9C56-F20C2898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673-67BD-42F2-BB8B-08FA243F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9EABE-F4C9-4910-96FC-51A5BDFB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0B47A-CF88-4B64-9F4F-CA8C431F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E7C7B-3777-4AF9-890A-A68EDA54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B81E3-0DD1-41EF-9A47-68E0C463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F0175-FE59-4E1A-8DA5-45D0714E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2852D-915B-4F0C-BE56-9EFC5539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487F1-75BF-448B-8186-29071716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CDB8F-1DCB-4A5B-A81C-40CE36D8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9CAB7-9656-4C35-8821-1EC20CC7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59F50-CAC7-4124-8E5E-538F50F7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drep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0A9E-630F-44A2-9300-7DA097B79D04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ector drept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Dreptunghi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Dreptunghi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reptunghi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Dreptunghi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Dreptunghi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reptunghi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Dreptunghi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989C-BE2F-4929-84AB-56C8EA9DD0B0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reptunghi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Dreptunghi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Dreptunghi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reptunghi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reptunghi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reptunghi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ector drept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4D35-836D-4859-AA60-C7491032FD0E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reptunghi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reptunghi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reptunghi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reptunghi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drept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0CF0-902F-4BCB-9421-B0A8D1534CE5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reptunghi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reptunghi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reptunghi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reptunghi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reptunghi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drep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F0AC-4C4D-47C0-B104-FAF3B1B9DB8F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reptunghi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reptunghi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reptunghi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reptunghi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reptunghi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reptunghi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reptunghi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reptunghi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drept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172A-2885-4EF3-BEB3-8EE9A4CA834B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reptunghi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reptunghi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reptunghi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reptunghi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reptunghi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ector drep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ector drept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6465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C3E7-4FEA-481C-9717-56D5F09904B7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ector drept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6465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Dreptunghi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reptunghi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Dreptunghi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reptunghi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reptunghi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reptunghi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drept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reptunghi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026E-C0A9-40FB-ABF2-3749F3C817BC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reptunghi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reptunghi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Dreptunghi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reptunghi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reptunghi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ector drep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EEBB-B434-4EB5-90FC-1AA6F3F80072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reptunghi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Dreptunghi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reptunghi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reptunghi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reptunghi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reptunghi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BB04-A77A-49E9-8166-144C51C63E67}" type="slidenum">
              <a:rPr b="0" lang="ro-RO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reptunghi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Dreptunghi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Dreptunghi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Dreptunghi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Dreptunghi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Dreptunghi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Dreptunghi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ector drept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Dreptunghi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C769-E7E5-4CFC-B3D4-95E36482F6A7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4289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64653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ff0000"/>
                </a:solidFill>
                <a:latin typeface="Georgia"/>
              </a:rPr>
              <a:t>Să  mâncăm sănătos !</a:t>
            </a:r>
            <a:br>
              <a:rPr sz="4200"/>
            </a:br>
            <a:endParaRPr b="0" lang="en-US" sz="4200" spc="-1" strike="noStrike">
              <a:solidFill>
                <a:srgbClr val="b9c06b"/>
              </a:solidFill>
              <a:latin typeface="Georgia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ro-RO" sz="3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ro-RO" sz="3000" spc="-1" strike="noStrike">
                <a:solidFill>
                  <a:srgbClr val="7030a0"/>
                </a:solidFill>
                <a:latin typeface="Georgia"/>
              </a:rPr>
              <a:t>Cele 7 alegeri pentru o alimentaţie sănătoasă  :</a:t>
            </a:r>
            <a:endParaRPr b="0" lang="en-US" sz="30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59" name="Dreptunghi 4"/>
          <p:cNvSpPr/>
          <p:nvPr/>
        </p:nvSpPr>
        <p:spPr>
          <a:xfrm>
            <a:off x="571680" y="1643040"/>
            <a:ext cx="79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Georgia"/>
              </a:rPr>
              <a:t>1. Leguminoase- fructe şi legume – peste 50 % din alimenta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Dreptunghi 5"/>
          <p:cNvSpPr/>
          <p:nvPr/>
        </p:nvSpPr>
        <p:spPr>
          <a:xfrm>
            <a:off x="785880" y="2286000"/>
            <a:ext cx="38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Consumul zilnic de fructe şi legume previne apariţia multor boli precum diabetul, bolile de inimă, mai multe tipuri de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Imagine 6" descr="1dd15797b8196430.jpg"/>
          <p:cNvPicPr/>
          <p:nvPr/>
        </p:nvPicPr>
        <p:blipFill>
          <a:blip r:embed="rId1"/>
          <a:stretch/>
        </p:blipFill>
        <p:spPr>
          <a:xfrm>
            <a:off x="857160" y="4429080"/>
            <a:ext cx="1928880" cy="1562040"/>
          </a:xfrm>
          <a:prstGeom prst="rect">
            <a:avLst/>
          </a:prstGeom>
          <a:ln w="0">
            <a:noFill/>
          </a:ln>
        </p:spPr>
      </p:pic>
      <p:pic>
        <p:nvPicPr>
          <p:cNvPr id="562" name="Imagine 8" descr="31af50c0177e4f00.jpg"/>
          <p:cNvPicPr/>
          <p:nvPr/>
        </p:nvPicPr>
        <p:blipFill>
          <a:blip r:embed="rId2"/>
          <a:stretch/>
        </p:blipFill>
        <p:spPr>
          <a:xfrm>
            <a:off x="5500800" y="2214720"/>
            <a:ext cx="2000160" cy="1800000"/>
          </a:xfrm>
          <a:prstGeom prst="rect">
            <a:avLst/>
          </a:prstGeom>
          <a:ln w="0">
            <a:noFill/>
          </a:ln>
        </p:spPr>
      </p:pic>
      <p:pic>
        <p:nvPicPr>
          <p:cNvPr id="563" name="Imagine 9" descr="865c4915f9438424.jpg"/>
          <p:cNvPicPr/>
          <p:nvPr/>
        </p:nvPicPr>
        <p:blipFill>
          <a:blip r:embed="rId3"/>
          <a:stretch/>
        </p:blipFill>
        <p:spPr>
          <a:xfrm>
            <a:off x="3000240" y="4500720"/>
            <a:ext cx="2175120" cy="1428480"/>
          </a:xfrm>
          <a:prstGeom prst="rect">
            <a:avLst/>
          </a:prstGeom>
          <a:ln w="0">
            <a:noFill/>
          </a:ln>
        </p:spPr>
      </p:pic>
      <p:pic>
        <p:nvPicPr>
          <p:cNvPr id="564" name="Imagine 10" descr="13cbe4575d41bc08.jpg"/>
          <p:cNvPicPr/>
          <p:nvPr/>
        </p:nvPicPr>
        <p:blipFill>
          <a:blip r:embed="rId4"/>
          <a:stretch/>
        </p:blipFill>
        <p:spPr>
          <a:xfrm>
            <a:off x="5643720" y="4429080"/>
            <a:ext cx="1928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0,-4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32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32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reptunghi 5"/>
          <p:cNvSpPr/>
          <p:nvPr/>
        </p:nvSpPr>
        <p:spPr>
          <a:xfrm>
            <a:off x="285840" y="28584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Georgia"/>
              </a:rPr>
              <a:t>2. Mai multe alimente pe bază de cereale integ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Dreptunghi 6"/>
          <p:cNvSpPr/>
          <p:nvPr/>
        </p:nvSpPr>
        <p:spPr>
          <a:xfrm>
            <a:off x="714240" y="1500120"/>
            <a:ext cx="657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Fibrele alimentare sunt acele părţi ale alimentelor de origine vegetală care nu pot fi absorbite sau digerate de organism, dar ajută la tranzitul intest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Cerealele integrale, în afară de fibre, conţin şi nutrienţi importanţi : riboflavină, magneziu, fosfor, fier, zinc, proteine şi grăsimi bene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Imagine 7" descr="b04b3c5dd222fef2.jpg"/>
          <p:cNvPicPr/>
          <p:nvPr/>
        </p:nvPicPr>
        <p:blipFill>
          <a:blip r:embed="rId1"/>
          <a:stretch/>
        </p:blipFill>
        <p:spPr>
          <a:xfrm>
            <a:off x="3500280" y="4214880"/>
            <a:ext cx="2214720" cy="1714320"/>
          </a:xfrm>
          <a:prstGeom prst="rect">
            <a:avLst/>
          </a:prstGeom>
          <a:ln w="0">
            <a:noFill/>
          </a:ln>
        </p:spPr>
      </p:pic>
      <p:pic>
        <p:nvPicPr>
          <p:cNvPr id="568" name="Imagine 8" descr="a4d76658aa6a1df6.jpg"/>
          <p:cNvPicPr/>
          <p:nvPr/>
        </p:nvPicPr>
        <p:blipFill>
          <a:blip r:embed="rId2"/>
          <a:stretch/>
        </p:blipFill>
        <p:spPr>
          <a:xfrm>
            <a:off x="6286680" y="4143240"/>
            <a:ext cx="2500200" cy="1857600"/>
          </a:xfrm>
          <a:prstGeom prst="rect">
            <a:avLst/>
          </a:prstGeom>
          <a:ln w="0">
            <a:noFill/>
          </a:ln>
        </p:spPr>
      </p:pic>
      <p:pic>
        <p:nvPicPr>
          <p:cNvPr id="569" name="Imagine 9" descr="wholegrain_promo.jpg"/>
          <p:cNvPicPr/>
          <p:nvPr/>
        </p:nvPicPr>
        <p:blipFill>
          <a:blip r:embed="rId3"/>
          <a:stretch/>
        </p:blipFill>
        <p:spPr>
          <a:xfrm>
            <a:off x="642960" y="42148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Dreptunghi 3"/>
          <p:cNvSpPr/>
          <p:nvPr/>
        </p:nvSpPr>
        <p:spPr>
          <a:xfrm>
            <a:off x="205920" y="285840"/>
            <a:ext cx="51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Georgia"/>
              </a:rPr>
              <a:t>3. Mai multe grăsimi bene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reptunghi 4"/>
          <p:cNvSpPr/>
          <p:nvPr/>
        </p:nvSpPr>
        <p:spPr>
          <a:xfrm>
            <a:off x="357120" y="1571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Georgia"/>
              </a:rPr>
              <a:t>Grăsimi  dăunătoare : </a:t>
            </a: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grăsimea de porc, vită, oaie, precum şi grăsimi create artificial (din margarin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Dreptunghi 5"/>
          <p:cNvSpPr/>
          <p:nvPr/>
        </p:nvSpPr>
        <p:spPr>
          <a:xfrm>
            <a:off x="384480" y="27147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Georgia"/>
              </a:rPr>
              <a:t>Grăsimi benefi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Dreptunghi 6"/>
          <p:cNvSpPr/>
          <p:nvPr/>
        </p:nvSpPr>
        <p:spPr>
          <a:xfrm>
            <a:off x="3000240" y="228600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6600"/>
                </a:solidFill>
                <a:latin typeface="Georgia"/>
              </a:rPr>
              <a:t>Acizi graşi omega-3 </a:t>
            </a: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: peşte, nuci, ulei de măsline, arahide, migd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Dreptunghi 7"/>
          <p:cNvSpPr/>
          <p:nvPr/>
        </p:nvSpPr>
        <p:spPr>
          <a:xfrm>
            <a:off x="3071880" y="428616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6600"/>
                </a:solidFill>
                <a:latin typeface="Georgia"/>
              </a:rPr>
              <a:t>Acizi graşi omega-6 </a:t>
            </a: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: ulei de porumb, soia, floarea soare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Conector drept cu săgeată 9"/>
          <p:cNvCxnSpPr/>
          <p:nvPr/>
        </p:nvCxnSpPr>
        <p:spPr>
          <a:xfrm flipV="1">
            <a:off x="2571480" y="2642760"/>
            <a:ext cx="500760" cy="2152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576" name="Conector drept cu săgeată 11"/>
          <p:cNvCxnSpPr/>
          <p:nvPr/>
        </p:nvCxnSpPr>
        <p:spPr>
          <a:xfrm>
            <a:off x="2500200" y="3000240"/>
            <a:ext cx="643320" cy="12866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pic>
        <p:nvPicPr>
          <p:cNvPr id="577" name="Imagine 15" descr="00ad40fd030f1652.jpg"/>
          <p:cNvPicPr/>
          <p:nvPr/>
        </p:nvPicPr>
        <p:blipFill>
          <a:blip r:embed="rId1"/>
          <a:stretch/>
        </p:blipFill>
        <p:spPr>
          <a:xfrm>
            <a:off x="3500280" y="3000240"/>
            <a:ext cx="1152720" cy="1238400"/>
          </a:xfrm>
          <a:prstGeom prst="rect">
            <a:avLst/>
          </a:prstGeom>
          <a:ln w="0">
            <a:noFill/>
          </a:ln>
        </p:spPr>
      </p:pic>
      <p:pic>
        <p:nvPicPr>
          <p:cNvPr id="578" name="Imagine 16" descr="19cafecee7da84e4.jpg"/>
          <p:cNvPicPr/>
          <p:nvPr/>
        </p:nvPicPr>
        <p:blipFill>
          <a:blip r:embed="rId2"/>
          <a:stretch/>
        </p:blipFill>
        <p:spPr>
          <a:xfrm>
            <a:off x="5500800" y="4929120"/>
            <a:ext cx="1285920" cy="938160"/>
          </a:xfrm>
          <a:prstGeom prst="rect">
            <a:avLst/>
          </a:prstGeom>
          <a:ln w="0">
            <a:noFill/>
          </a:ln>
        </p:spPr>
      </p:pic>
      <p:pic>
        <p:nvPicPr>
          <p:cNvPr id="579" name="Imagine 17" descr="a424ddded0146c00.jpg"/>
          <p:cNvPicPr/>
          <p:nvPr/>
        </p:nvPicPr>
        <p:blipFill>
          <a:blip r:embed="rId3"/>
          <a:stretch/>
        </p:blipFill>
        <p:spPr>
          <a:xfrm>
            <a:off x="7286760" y="4857840"/>
            <a:ext cx="904680" cy="1000080"/>
          </a:xfrm>
          <a:prstGeom prst="rect">
            <a:avLst/>
          </a:prstGeom>
          <a:ln w="0">
            <a:noFill/>
          </a:ln>
        </p:spPr>
      </p:pic>
      <p:pic>
        <p:nvPicPr>
          <p:cNvPr id="580" name="Imagine 18" descr="Ulei_de_Peste.png"/>
          <p:cNvPicPr/>
          <p:nvPr/>
        </p:nvPicPr>
        <p:blipFill>
          <a:blip r:embed="rId4"/>
          <a:stretch/>
        </p:blipFill>
        <p:spPr>
          <a:xfrm>
            <a:off x="5715000" y="3048120"/>
            <a:ext cx="1714680" cy="1144440"/>
          </a:xfrm>
          <a:prstGeom prst="rect">
            <a:avLst/>
          </a:prstGeom>
          <a:ln w="0">
            <a:noFill/>
          </a:ln>
        </p:spPr>
      </p:pic>
      <p:sp>
        <p:nvSpPr>
          <p:cNvPr id="581" name="Dreptunghi 19"/>
          <p:cNvSpPr/>
          <p:nvPr/>
        </p:nvSpPr>
        <p:spPr>
          <a:xfrm>
            <a:off x="421560" y="592920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6600"/>
                </a:solidFill>
                <a:latin typeface="Georgia"/>
              </a:rPr>
              <a:t>Acizii graşi omega-3 sunt cei mai indicaţ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8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reptunghi 3"/>
          <p:cNvSpPr/>
          <p:nvPr/>
        </p:nvSpPr>
        <p:spPr>
          <a:xfrm>
            <a:off x="258480" y="35712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Georgia"/>
              </a:rPr>
              <a:t>4. Un plus de alimente bogate în calc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reptunghi 4"/>
          <p:cNvSpPr/>
          <p:nvPr/>
        </p:nvSpPr>
        <p:spPr>
          <a:xfrm>
            <a:off x="428760" y="150012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6600"/>
                </a:solidFill>
                <a:latin typeface="Georgia"/>
              </a:rPr>
              <a:t>Importanţa calciulu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99 % din calciu asigură dezvoltarea şi robusteţea oase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Reduce tensiunea arterial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Păstrează  flexibilitatea artere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Sprijină rinichii sa elimine sodiu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Protejează împotriva pierderelor de memo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Imagine 5" descr="72b5dc210d3bc5bc.jpg"/>
          <p:cNvPicPr/>
          <p:nvPr/>
        </p:nvPicPr>
        <p:blipFill>
          <a:blip r:embed="rId1"/>
          <a:stretch/>
        </p:blipFill>
        <p:spPr>
          <a:xfrm>
            <a:off x="5572080" y="3929040"/>
            <a:ext cx="2571840" cy="1919160"/>
          </a:xfrm>
          <a:prstGeom prst="rect">
            <a:avLst/>
          </a:prstGeom>
          <a:ln w="0">
            <a:noFill/>
          </a:ln>
        </p:spPr>
      </p:pic>
      <p:pic>
        <p:nvPicPr>
          <p:cNvPr id="585" name="Imagine 6" descr="dcf2a8ea96255358.jpg"/>
          <p:cNvPicPr/>
          <p:nvPr/>
        </p:nvPicPr>
        <p:blipFill>
          <a:blip r:embed="rId2"/>
          <a:stretch/>
        </p:blipFill>
        <p:spPr>
          <a:xfrm>
            <a:off x="5929200" y="1357200"/>
            <a:ext cx="1571760" cy="2347920"/>
          </a:xfrm>
          <a:prstGeom prst="rect">
            <a:avLst/>
          </a:prstGeom>
          <a:ln w="0">
            <a:noFill/>
          </a:ln>
        </p:spPr>
      </p:pic>
      <p:pic>
        <p:nvPicPr>
          <p:cNvPr id="586" name="Imagine 7" descr="4094ac7542fccdc2.jpg"/>
          <p:cNvPicPr/>
          <p:nvPr/>
        </p:nvPicPr>
        <p:blipFill>
          <a:blip r:embed="rId3"/>
          <a:stretch/>
        </p:blipFill>
        <p:spPr>
          <a:xfrm>
            <a:off x="1143000" y="4000680"/>
            <a:ext cx="2286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reptunghi 3"/>
          <p:cNvSpPr/>
          <p:nvPr/>
        </p:nvSpPr>
        <p:spPr>
          <a:xfrm>
            <a:off x="428760" y="5000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Georgia"/>
              </a:rPr>
              <a:t>5.  Mai multe proteine sla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Dreptunghi 4"/>
          <p:cNvSpPr/>
          <p:nvPr/>
        </p:nvSpPr>
        <p:spPr>
          <a:xfrm>
            <a:off x="285840" y="150012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Proteinele reprezintă elementele constructive ale organismului, folosite la „ fabricarea” tuturor structurilor sale – de la muşchi, oase si ţesuturile organelor interne şi până la hormoni, enzime şi globule roş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Dreptunghi 5"/>
          <p:cNvSpPr/>
          <p:nvPr/>
        </p:nvSpPr>
        <p:spPr>
          <a:xfrm>
            <a:off x="642960" y="2786040"/>
            <a:ext cx="292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P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Cur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Carne slabă de vi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Imagine 6" descr="34d9630cdd77f370.jpg"/>
          <p:cNvPicPr/>
          <p:nvPr/>
        </p:nvPicPr>
        <p:blipFill>
          <a:blip r:embed="rId1"/>
          <a:stretch/>
        </p:blipFill>
        <p:spPr>
          <a:xfrm>
            <a:off x="2071800" y="3571920"/>
            <a:ext cx="1938240" cy="1357200"/>
          </a:xfrm>
          <a:prstGeom prst="rect">
            <a:avLst/>
          </a:prstGeom>
          <a:ln w="0">
            <a:noFill/>
          </a:ln>
        </p:spPr>
      </p:pic>
      <p:pic>
        <p:nvPicPr>
          <p:cNvPr id="591" name="Imagine 7" descr="b2ab9d408697c750.jpg"/>
          <p:cNvPicPr/>
          <p:nvPr/>
        </p:nvPicPr>
        <p:blipFill>
          <a:blip r:embed="rId2"/>
          <a:stretch/>
        </p:blipFill>
        <p:spPr>
          <a:xfrm>
            <a:off x="4500720" y="4572000"/>
            <a:ext cx="1857240" cy="1382760"/>
          </a:xfrm>
          <a:prstGeom prst="rect">
            <a:avLst/>
          </a:prstGeom>
          <a:ln w="0">
            <a:noFill/>
          </a:ln>
        </p:spPr>
      </p:pic>
      <p:pic>
        <p:nvPicPr>
          <p:cNvPr id="592" name="Imagine 8" descr="e3c4c65016186e5c.jpg"/>
          <p:cNvPicPr/>
          <p:nvPr/>
        </p:nvPicPr>
        <p:blipFill>
          <a:blip r:embed="rId3"/>
          <a:stretch/>
        </p:blipFill>
        <p:spPr>
          <a:xfrm>
            <a:off x="4429080" y="2714760"/>
            <a:ext cx="18576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0,-4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4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3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00"/>
                            </p:stCondLst>
                            <p:childTnLst>
                              <p:par>
                                <p:cTn id="27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"/>
          <p:cNvSpPr/>
          <p:nvPr/>
        </p:nvSpPr>
        <p:spPr>
          <a:xfrm>
            <a:off x="428760" y="43020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6. Mai puţine calor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reptunghi 5"/>
          <p:cNvSpPr/>
          <p:nvPr/>
        </p:nvSpPr>
        <p:spPr>
          <a:xfrm>
            <a:off x="642960" y="164304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utem  să   mâncăm suficient de mult  şi în acelaşi timp cu puţine calorii. Aceasta dacă respectăm câteva regul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sumăm mai multe legume şi fructe decât car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În loc să prăjim carnea în grăsimi o fierbem sau o preparam la grăt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 loc de deserturi cu multe calorii putem alege o salată de fructe proaspe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ă nu treacă un interval prea mare între m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Imagine 6" descr="7960e908ed326c7a.jpg"/>
          <p:cNvPicPr/>
          <p:nvPr/>
        </p:nvPicPr>
        <p:blipFill>
          <a:blip r:embed="rId1"/>
          <a:stretch/>
        </p:blipFill>
        <p:spPr>
          <a:xfrm>
            <a:off x="5643720" y="1643040"/>
            <a:ext cx="2357280" cy="1763640"/>
          </a:xfrm>
          <a:prstGeom prst="rect">
            <a:avLst/>
          </a:prstGeom>
          <a:ln w="0">
            <a:noFill/>
          </a:ln>
        </p:spPr>
      </p:pic>
      <p:pic>
        <p:nvPicPr>
          <p:cNvPr id="596" name="Imagine 7" descr="f0ad47699c7903c4.jpg"/>
          <p:cNvPicPr/>
          <p:nvPr/>
        </p:nvPicPr>
        <p:blipFill>
          <a:blip r:embed="rId2"/>
          <a:stretch/>
        </p:blipFill>
        <p:spPr>
          <a:xfrm>
            <a:off x="5429160" y="3929040"/>
            <a:ext cx="3214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3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"/>
          <p:cNvSpPr/>
          <p:nvPr/>
        </p:nvSpPr>
        <p:spPr>
          <a:xfrm>
            <a:off x="357120" y="501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Calibri"/>
                <a:ea typeface="Calibri"/>
              </a:rPr>
              <a:t>7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âncaţi cu plăcer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357120" y="16545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ucuraţi-vă de varietatea culorilor şi texturilor alimentelor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âncaţi fără să vă grăbiţ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nsumaţi multe lichide sănătoas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Imagine 6" descr="142839e8b994bb32.jpg"/>
          <p:cNvPicPr/>
          <p:nvPr/>
        </p:nvPicPr>
        <p:blipFill>
          <a:blip r:embed="rId1"/>
          <a:stretch/>
        </p:blipFill>
        <p:spPr>
          <a:xfrm>
            <a:off x="2714760" y="4000680"/>
            <a:ext cx="29289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5:53:51Z</dcterms:created>
  <dc:creator>user</dc:creator>
  <dc:description/>
  <dc:language>en-US</dc:language>
  <cp:lastModifiedBy>User</cp:lastModifiedBy>
  <dcterms:modified xsi:type="dcterms:W3CDTF">2012-05-20T17:18:54Z</dcterms:modified>
  <cp:revision>16</cp:revision>
  <dc:subject/>
  <dc:title>Să  mâncăm sănătos !</dc:title>
</cp:coreProperties>
</file>